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F92D-46A2-4D19-BEF3-89D3E8FA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7A5-44CD-475E-80A6-0C939729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52AB-31FA-4980-8C27-5E6460BC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E44-65A1-4ED5-986B-05C4728B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F545D-6940-4492-B8C7-0E950281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C5AE-8D0A-4783-B65D-2C0F0D6B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B56C3-0DA4-4857-A5D6-AF819CD8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0F39-226E-4678-AB5A-DADE175F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4400-EA4A-4CC3-9407-10EE9D7E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CCFD-6806-478F-98FD-99FECBD7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D573-38A5-4922-8E32-7CCF6BEC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BB3-9BD1-4CBE-B24C-B0DFE493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AD0B-5234-4E50-B526-F8C1F619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A337-9474-434E-BE51-B525CAD7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27080-343F-4EAD-A0A2-8D849313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808A-C8E9-4571-BEF4-A82794A8D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A718-3A8F-4D94-ACFC-CDBACC7B6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378-31CA-4B75-951B-D2700E8F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D37-45B3-460E-8730-E62A4438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B97C-15EC-48BC-ADDE-C96E180C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D328-F5C4-414B-8C82-1C155CB1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4C9B-5D59-487E-A3AE-717BC722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0071-C21C-4ECC-9DAA-08DC233F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954D-D4DB-4914-B978-3775B32A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27A9-D20C-460A-9D72-CA707B8305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E1C2-4256-4A65-A8C6-A898F37275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hapter 7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he Vinegar and Baking Soda Reaction…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tic Acid + Sodium Bicarbonate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odium Acetate + Water + Carbon Diox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943600" y="213372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Using Formula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Vinegar and Baking soda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OH + NaH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OONa + H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0 + CO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Why use formulas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 at how long the equation was when we used the words for the vinegar and baking soda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w look how short the formula version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ubscript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se little numbers that are below the symb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re is a number written, then there are exactly that many number of that at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o number is written, then there is one atom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NOT CHANGE A SUBSCRIPT!!! NEVER!!!! EVER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he Law of Conservation of Mas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ember Antoine Lavoisi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showed that chemical equations are much like mathematic equations…there must be a balance on both si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take a look at the vinegar and baking soda re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ke a list of atoms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 the number of each atom on each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ven, then the equation is “balanced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not, then there must be some changes ma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ERSCRIPTS!!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EFFICIENTS 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Using a Superscrip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lver + Hydrogen Sulfid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lver Chloride + Hydro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is equation balanc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can we do to fix i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Ag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g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+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Balance These Equat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+ Al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NaCl + 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Br + C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Cl + Br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0 +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eam Balancing Activit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lance ALL of the given equations using the materials provi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NOT write on the c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may only change the COEFFIC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 me to check each equation before moving on to the next eq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mportant Vocabular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c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othermic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othermic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9432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ation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e of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aly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zym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troductory Lab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supplies provided to make a chemical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stion: What indicates that a chemical reaction has occur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hesis: If you combine the provided supplies, then a chemical reaction occurs, becaus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erials: Sugar, spoon, candle, matches, hydrogen peroxide, yeast, test tub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hysical or Chemical Change?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changes affect only physical properties such as shape, size or state of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changes produce new substances with properties different from any component of the sub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process that produces a chemical change is called a chemical re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Visualizing Chemical React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at Page 19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ine the pictures and read the captions on your ow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swer these two ques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ow does temperature affect the speed of the chemical reaction that causes milk to sour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are some other examples of chemical changes that you can detect by using your senses? Name one reaction for each of your sens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hemical Equat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bstances that you start with and react with one another are called REACT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bstances that are produced after the reaction are called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you mix baking soda and vinegar, you get a vigorous bubbling rea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are the reactants in this rea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at are the product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hemical Equat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shorthand way of describing a re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equations use chemical symbols, formulas, and simple math to explain chemical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ions tell chemists and you the reactants, products, physical state, and the proportions of each substance pres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You will see the importance of this really soon!!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Using Words to Describe Reaction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e Table 1 on Page 19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hows you a very simple look at chemical eq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 of some of the reactions we have performed so f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t’s write them in word 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Using Chemical Nam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household items have common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king So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Vinega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names are not typically used in chemical eq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dium Bicarbona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cetic Aci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3:11:19Z</dcterms:created>
  <dc:creator>Adam's Homepage</dc:creator>
  <dc:description/>
  <dc:language>en-US</dc:language>
  <cp:lastModifiedBy>Adam's Homepage</cp:lastModifiedBy>
  <dcterms:modified xsi:type="dcterms:W3CDTF">2008-11-13T17:01:10Z</dcterms:modified>
  <cp:revision>3</cp:revision>
  <dc:subject/>
  <dc:title>Chapter 7</dc:title>
</cp:coreProperties>
</file>